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EEA-361A-41A9-A084-03E0498F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283-ED79-4993-87A3-0CAAB57E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B38-2C47-46C8-B803-EA3ED5DB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D61-B833-44F2-A9F9-076C39C1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595-ED9E-493C-908F-7844847F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AC11-3D3F-4745-BB90-C5C92A3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230-354F-426C-AF46-BAF3D848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E7DF-2FCC-4551-8471-C3B8029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48D-83A9-418F-967E-0533E18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D6F-9C95-43C9-87D0-9EF2E3C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A343-D184-4557-8FF6-A78689F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8D7-6854-4A68-902C-E0D2DC2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CA4E-2701-4AFD-B891-5D4F1D3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F42A-E370-4DCA-AA48-4C430BD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9F67-CE9F-497B-8B3D-583C442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3502-7692-4BBA-BA91-C47AD1B5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0693-DAF8-436C-9CCF-BC0CD612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5EC-6E69-4354-BA0E-F798D30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DFA-7126-42CC-AED4-1156E1C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A3A-FB3E-4F2C-8B73-761FC5C8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895-8104-4ABF-BF72-0413D562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B61-A074-4AB0-B5D9-4413AF7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D22-3199-45E7-9808-4142856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F15-6F41-44D5-BBA0-DD513C1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49D9-7991-434C-98DB-260B9E9DDC19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D22-8B6D-4598-A677-DB814DAA2424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62c"/>
                </a:solidFill>
                <a:latin typeface="Arial Black"/>
              </a:rPr>
              <a:t>Current, Conductors and Insulators</a:t>
            </a:r>
            <a:endParaRPr b="0" lang="en-US" sz="4800" spc="-1" strike="noStrike">
              <a:solidFill>
                <a:srgbClr val="98462c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us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uses contain a thin wire and if too much electricity flows through the wire, it heats up and melt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urren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urren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Current refers to electricity that moves through a circu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6705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4275000"/>
            <a:ext cx="3505320" cy="258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onduc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conductor is a material that allows electric current to pass through i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ypes of metal such as silver and copper are usually the best conducto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onduc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inside of wires and the connective parts of switches are made of conducto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57913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Resistor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esistors do not allow electric current to pass through as easy as oth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2200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s electrons move through a resistor, they cause frict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s friction creates heat, and the material gets warmer and sometimes lights up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295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sistor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ou find resistors in toasters, stoves, and heate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2476440" cy="1866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2590560" cy="1633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43200" y="4876920"/>
            <a:ext cx="285768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477120" y="3124080"/>
            <a:ext cx="2404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62600" y="4524480"/>
            <a:ext cx="2381400" cy="23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414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sulator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sulators do not allow any current to pass through them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se protect us from the harm that electric current can cause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ires are always covered with an insulator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bber, plastic, and glass make the best insulator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us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fuse protects a circuit from too much electric current from passing through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25192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0:51:59Z</dcterms:created>
  <dc:creator>Teacher</dc:creator>
  <dc:description/>
  <dc:language>en-US</dc:language>
  <cp:lastModifiedBy>nbdoe</cp:lastModifiedBy>
  <dcterms:modified xsi:type="dcterms:W3CDTF">2006-12-07T13:47:00Z</dcterms:modified>
  <cp:revision>5</cp:revision>
  <dc:subject/>
  <dc:title>Current, Conductors and Insulators</dc:title>
</cp:coreProperties>
</file>